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33C-9ABB-4F9E-8720-640BA7C7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573-8CFE-4323-96C3-BBB291AE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451-968E-4CD4-B196-5D081695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53B-136A-4D45-9A6F-D93CB89E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32F-A961-4076-852A-8955DAEB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BB02-08A9-42F4-8D20-C0AAFFD5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265E-E1F8-4AC0-BC7E-24113F0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5BFC-924C-4FC0-95E3-13D8F6B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C430-3425-4083-84C7-CD2D8CC2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375B-8EA6-4668-BB6D-53362520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47C2-4AA2-43A1-B0C4-CA21CE9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648-CAAC-4330-A870-013C443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A742-E569-4564-81DB-BFC99942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3A4D-0424-4147-95A2-1241566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BF3F-F7BE-42A2-84DB-B6690917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B01-4568-4176-BD1C-F8875EF9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E1F6-7611-44C5-BFBE-A9D5D0E3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F97-57AF-476F-81F5-B5C9B1FE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C4A-E435-4F0E-8C0D-F98E41FF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25C-1484-4A5F-9C78-970A2A90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4BF-D683-42B9-A9CA-826B3B5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EB2-2708-46A7-A85E-176123E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FE1-7CB4-40B6-B70B-5ABDB60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CD2-1366-41B5-9BAF-D5EAEE7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A3D7-7AF5-4342-8518-B6ECA1237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05BD-53AE-4544-B074-CF02B9E5E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westburlingtoncity.com/media/RoundJamWeb.jpg&amp;imgrefurl=http://www.westburlingtoncity.com/index.php%3Fm%3D200704&amp;usg=__zQa5GfN9UuOg1ZWwJlsG5L4-bh8=&amp;h=300&amp;w=450&amp;sz=36&amp;hl=en&amp;start=1&amp;itbs=1&amp;tbnid=f1ra7VjjqkJWFM:&amp;tbnh=85&amp;tbnw=127&amp;prev=/images%3Fq%3Dtraffic%2Bflow%26hl%3Den%26sa%3DG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eaching Partial Differential Equations Using 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Mathematic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arina Jeg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t Prof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and Mathematical Sciences Depar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Houston – Downt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lfram Technology Conference, Champa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tober 21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3: (The plucked st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Conditions                                                     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x) = 3x/2, 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3(1-x), x&gt;2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419360" cy="3325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4073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4: (Localized Pluc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Conditions                                       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 0, 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(x-a)/(p-a), a&lt;x&lt;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(x-b)/(p-b), p&lt;x&lt;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0, x&gt;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0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3240360" cy="2755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24036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ample II: Secondary Oil Recovery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gu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about the equation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f (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g (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space,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 functions: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saturation of w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- saturation of g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- saturation of oil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 – (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s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igenvalu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 that the system is hyperbo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umbilic points of the system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C:\Users\Katarina Jegdic\Desktop\oil.jpg"/>
          <p:cNvPicPr/>
          <p:nvPr/>
        </p:nvPicPr>
        <p:blipFill>
          <a:blip r:embed="rId1"/>
          <a:stretch/>
        </p:blipFill>
        <p:spPr>
          <a:xfrm>
            <a:off x="4800600" y="1371600"/>
            <a:ext cx="3809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values of th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957480" cy="4203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83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bilic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94360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pproximate Solution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429000" cy="2593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3200400" cy="252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3"/>
          <a:stretch/>
        </p:blipFill>
        <p:spPr>
          <a:xfrm>
            <a:off x="2666880" y="4038480"/>
            <a:ext cx="32767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udents’ Experienc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oriented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, collaborative and cooperativ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communication and writ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971800"/>
            <a:ext cx="8229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8862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EP (Quality Enhancement Plan) Grant at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ng the spring semester of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ms.uhd.edu/qep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Linda Becerra,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Jeong-Mi Yoon,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Volodymyr Hrynkiv,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 way of teaching upper level mathematics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way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ctor lec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ing, listening, taking notes and working individually on assig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sal at UHD for the Quality Enhancement Plan (QEP) 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taking a more active role in the cou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orking in small teams on solving research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learning and cooperative learning, learning by teaching others, discussing, using technology, presenting resul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 4304 (Introduction to Partial Differential Equations) at U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tial equations play a prominent role in physics, chemistry, engineering, biology, economic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s in fluid dynamics, oil industry, medicine, aerospace engineering, traffic control, etc. (Houston oil sector, Texas Medical Center, NA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urse Implement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 4304 syllab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equation in one-dim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rivation, boundary conditions, derivation in 2d and 3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od of separation of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, linearity, examples with the heat eq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lace eq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quation inside a rectangle, equation for a circular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ier s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, convergence theorem, Fourier Cosine and Sine series, term-by-term differentiation and 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eq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, derivation, boundary condi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rm-Liouville eigenvalue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, examples, general classification, self-adjoint operators, Rayleigh quot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homogenous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ier Transform solutions of 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lace Transform solutions of 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urse Implementation - continu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world problems motivate students and give meaning to the material studied in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ten too complex for explicit so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develop numerical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s consist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ivation of differential equations which describe particular physical phenome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quations are simplified enough so that their basic properties could be understood and analyzed theoret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of numerical methods for the approximate solv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derive numerical methods based on the eq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inite difference, finite volu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ation of codes using Mathematica, Matlab or Ma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urse Implementation - continu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dynamics                         Oil Flow                          Traffic 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llow Water Equations     Heat Equation             Wave Eq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C:\Users\Katarina Jegdic\Desktop\jet.jpg"/>
          <p:cNvPicPr/>
          <p:nvPr/>
        </p:nvPicPr>
        <p:blipFill>
          <a:blip r:embed="rId1"/>
          <a:stretch/>
        </p:blipFill>
        <p:spPr>
          <a:xfrm>
            <a:off x="380880" y="220968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Katarina Jegdic\Desktop\oil.jpg"/>
          <p:cNvPicPr/>
          <p:nvPr/>
        </p:nvPicPr>
        <p:blipFill>
          <a:blip r:embed="rId2"/>
          <a:stretch/>
        </p:blipFill>
        <p:spPr>
          <a:xfrm>
            <a:off x="3200400" y="2209680"/>
            <a:ext cx="3124080" cy="1640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2209680"/>
            <a:ext cx="2438280" cy="1632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2514600" cy="1508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38098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5562720" y="4648320"/>
            <a:ext cx="327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ime tab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structor provides a detailed study guide for each project consisting of book chapters, research articles, codes and any additional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s consist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ation of the equ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ment of numerical methods for approximate so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s in Mathematica/Matlab/Ma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ing three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driven, student-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ork in t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 particular example, derive equations, derive numerical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existing codes and/or implement their own codes in Mathematica, Matlab, Ma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 results among themselves, with other teams and with the in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type their results using Microsoft Word or Lat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ample I: Wave Eq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324080"/>
            <a:ext cx="77724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nformation about the equatio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tt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0&lt;x&lt;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0&lt;t&l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u(0,t)=0   u(l,t)=0   u(x,0)=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x)   u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x,0)=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olve the above problem using the method of separation of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u(x,t)=X(x)T(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olve the eigenvalue problems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(t)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(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giv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undary cond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lo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variou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and plot solutions to various initial cond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8680" y="914400"/>
            <a:ext cx="2819520" cy="1763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7200" y="11430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itial Condi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 x(1-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0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114800" cy="3000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959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Conditions                                                    Solution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φ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 sin(5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x) + 2 sin(7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x)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154400" cy="2539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6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22:08:09Z</dcterms:created>
  <dc:creator>GX620</dc:creator>
  <dc:description/>
  <dc:language>en-US</dc:language>
  <cp:lastModifiedBy>gust</cp:lastModifiedBy>
  <dcterms:modified xsi:type="dcterms:W3CDTF">2011-10-21T17:34:39Z</dcterms:modified>
  <cp:revision>84</cp:revision>
  <dc:subject/>
  <dc:title>Slide 1</dc:title>
</cp:coreProperties>
</file>